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32172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949360" y="1865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93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32172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949360" y="4014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93720" y="493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6400" y="4014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372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400" y="1865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3720" y="4014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3720" y="493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3720" y="1865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68240" indent="-285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8728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6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094520" y="6492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CB6D-BD72-4B3B-9980-C8BEBB723829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495320" y="380880"/>
            <a:ext cx="4496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85440" y="1343160"/>
            <a:ext cx="7924680" cy="15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Fir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342900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000000"/>
                </a:solidFill>
                <a:latin typeface="Arial"/>
              </a:rPr>
              <a:t>Second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winburne University Swinburne University</cp:lastModifiedBy>
  <dcterms:modified xsi:type="dcterms:W3CDTF">2007-11-02T06:31:03Z</dcterms:modified>
  <cp:revision>9</cp:revision>
  <dc:subject/>
  <dc:title>Module 3:  Is Pluto a Planet?</dc:title>
</cp:coreProperties>
</file>