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F5631-F70B-4F4A-80EF-58B1CB581CD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on page two, again lacking format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7D875-3211-457B-B036-7CA12994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2BB4-4ED8-41B1-8175-E4EA3115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A7FE-34A8-497A-8853-30CC712BD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498D-F474-47A4-811E-51EFF56A0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130D-4280-4DF9-B890-585BC2D3A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2AB3-2B56-4070-958B-C32D63D3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2FA3-7768-4B51-B257-74C58CEE5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B6C7-A822-4496-9532-AA0ABD25A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8F9EE-0E3C-462B-843B-C950B087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D879-235C-4AFE-9DCD-5B0AFB9B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F0CA-EB47-4C33-A311-F4CAD0D2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8C6A-71C3-4453-A13D-A07A6F85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301F9-4D5D-40F8-8179-D0025699C8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one of them have 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6:59:39Z</dcterms:created>
  <dc:creator>Hogwarts</dc:creator>
  <dc:description/>
  <dc:language>en-US</dc:language>
  <cp:lastModifiedBy>Hogwarts</cp:lastModifiedBy>
  <dcterms:modified xsi:type="dcterms:W3CDTF">2005-05-13T17:03:55Z</dcterms:modified>
  <cp:revision>3</cp:revision>
  <dc:subject/>
  <dc:title>This is a test title</dc:title>
</cp:coreProperties>
</file>