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12A0-4763-41B5-8496-D8EE14171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DAC0-C889-4650-B1BD-087F98ADD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A06E-315F-48CB-A183-FEBCC104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61AD-67C6-4F4C-B5A5-0D63F5A03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A20E-007C-4817-B652-93A6A1332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942C-B97E-4B53-ABFA-E500A21A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77E4-2521-492C-A21A-2AA715DA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58C5-775E-46F2-9364-B2FB36B72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CE1A-A358-40EF-8CA6-05107A31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7208A-C935-4C5D-95A4-B7A8B501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86619-E049-4763-8517-C739E854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18DC-5888-4DF5-AB72-92D8619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324B5-C620-4C26-9309-0AAF944646E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1T09:07:25Z</dcterms:created>
  <dc:creator>ECM</dc:creator>
  <dc:description/>
  <dc:language>en-US</dc:language>
  <cp:lastModifiedBy>ECM</cp:lastModifiedBy>
  <dcterms:modified xsi:type="dcterms:W3CDTF">2007-09-13T08:31:28Z</dcterms:modified>
  <cp:revision>2</cp:revision>
  <dc:subject/>
  <dc:title>Slide 1</dc:title>
</cp:coreProperties>
</file>