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60AD-AB7A-4C96-923B-BC675DA16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3F31-DF08-4961-854F-083A2821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D3E47-F23A-4202-AA1F-9D9D7DBA6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A392-4B35-468F-8F1D-89E4B459C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8514F-6DBD-4F7D-9C1A-188E6A38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C18C5-53AC-4B9C-B79D-EE4117792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F300F-3512-4682-B58D-D3E08B9CC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C6DBC-C4A8-4FCE-A346-207A2728D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0067E-530E-499B-A272-62C0605CB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0FB77-B461-418C-8EA5-39B728E2F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1AC11-5748-46AF-8D12-2E21F5D7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FD90-8991-4B47-B402-A38BAF5A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0F97F-9DD1-4AC7-BC61-0640C75A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9AA7-76F3-49BE-ABBE-A19348A5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C6F8-A044-4B8E-B185-40CB7CDA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EE045-838C-4AD3-9BEB-5E1064780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79094-938C-4F00-8135-7F28167ED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8EE4-BA06-4787-A6A5-52077697D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2CB0-C0A9-49BF-A7A9-A1E76A9B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8C96C-FAD9-4132-876E-08CCB3527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D0C6-88AB-4531-A123-E9C3800D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4D24-D6A0-45C5-BE77-049DEAA0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7344-326A-4272-89F4-A6B644A0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0592-BD92-4950-A30E-86A74931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B9E59-5EE8-4D6B-A02F-16D5336DC6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traight Connector 6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b2c1d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988BB-66F9-419F-B1F7-A478EBC7EC6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361960" y="1219320"/>
            <a:ext cx="6172200" cy="18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llo Apache PO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2361960" y="396252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Why are you showing this bord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1296720" y="5410080"/>
            <a:ext cx="2375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black b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4"/>
          <p:cNvSpPr/>
          <p:nvPr/>
        </p:nvSpPr>
        <p:spPr>
          <a:xfrm>
            <a:off x="3974760" y="5410080"/>
            <a:ext cx="2134440" cy="368280"/>
          </a:xfrm>
          <a:prstGeom prst="rect">
            <a:avLst/>
          </a:prstGeom>
          <a:noFill/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der width is 5 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8T00:13:07Z</dcterms:created>
  <dc:creator>Zbigoo</dc:creator>
  <dc:description/>
  <dc:language>en-US</dc:language>
  <cp:lastModifiedBy>Yegor Kozlov</cp:lastModifiedBy>
  <dcterms:modified xsi:type="dcterms:W3CDTF">2012-02-22T11:35:50Z</dcterms:modified>
  <cp:revision>13</cp:revision>
  <dc:subject/>
  <dc:title>Salutare</dc:title>
</cp:coreProperties>
</file>