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69820"/>
        <c:axId val="44403593"/>
      </c:barChart>
      <c:catAx>
        <c:axId val="373698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03593"/>
        <c:crosses val="autoZero"/>
        <c:auto val="1"/>
        <c:lblAlgn val="ctr"/>
        <c:lblOffset val="100"/>
        <c:noMultiLvlLbl val="0"/>
      </c:catAx>
      <c:valAx>
        <c:axId val="444035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69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E606-90D7-441C-8A76-7B27B204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0A39-5EEC-44F9-87B6-5D30CF2F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978B-BD22-437D-913D-00990EB4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0BFB-59E8-45EF-8DD5-2A12C135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9992-DB02-45A1-8D36-3D72194B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A33-6918-4246-83C5-8E57BC04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453-0CC6-48D5-9569-4A10B9ED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6BC-10A0-42C8-AD0D-10503551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6D9-722F-4ED6-9C06-4A0969D1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FA0-E853-4A51-B04D-4F506581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1513-B94B-4905-8ECC-C6932E92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CF4-7FDE-4C12-9CFC-E597EA9C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822ED-89A4-4D58-8C23-B641BBD954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