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259341"/>
        <c:axId val="73418094"/>
      </c:barChart>
      <c:catAx>
        <c:axId val="102593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418094"/>
        <c:crosses val="autoZero"/>
        <c:auto val="1"/>
        <c:lblAlgn val="ctr"/>
        <c:lblOffset val="100"/>
        <c:noMultiLvlLbl val="0"/>
      </c:catAx>
      <c:valAx>
        <c:axId val="734180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593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38CE-99C9-4686-94EE-E50662698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F79D-DBD9-49DC-BCD0-08C962D4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E83D-F8D4-4983-BFEB-4EED77C03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44F0-D1D4-4DB5-8C9F-C43FDE3E9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9E8D-1356-4F20-B485-0694F9EF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5F4F-FA4B-4BC4-9271-C924CA78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4F2F-13B6-464D-8FE2-26CEFDD7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091D-E2F9-4BCA-BF49-BB87DC46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6DB2-6D76-4819-9B74-EFE14ABE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ECB6-19CE-4C0F-BD12-0BF24338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75F7-1C86-4D67-8714-A83A0589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C80E-D6FB-49C1-BD90-D52717B7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40779-A086-4A9E-99D5-677EB41C0D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