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1338"/>
        <c:axId val="92045056"/>
      </c:barChart>
      <c:catAx>
        <c:axId val="5441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45056"/>
        <c:crosses val="autoZero"/>
        <c:auto val="1"/>
        <c:lblAlgn val="ctr"/>
        <c:lblOffset val="100"/>
        <c:noMultiLvlLbl val="0"/>
      </c:catAx>
      <c:valAx>
        <c:axId val="92045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1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5EF-5C6A-4E0B-8502-0FD9F7F6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EA4-B8F2-451F-AEDE-4BBBE275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3C8-72EA-46DD-B433-D93B70BB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3F4-B862-49C1-A245-C1423B71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DB8-7264-4E19-846A-0AE23A1B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9E1-750E-44C2-A59A-95AAD116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8BA-9CD7-432C-A83A-ECD21044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9D1-EFEE-4C48-B768-1D78464E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D0D-4DB3-4D1B-B07B-C0C4365F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B30-170F-4A34-BC9F-970B0A23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0F8-5CFD-456D-8226-F6372179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D1A-A7DB-4EE8-BF9D-C08E4894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9B0F7-1083-4F37-A8B0-38D329CA6B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