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5116093"/>
        <c:axId val="36736633"/>
      </c:barChart>
      <c:catAx>
        <c:axId val="2511609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736633"/>
        <c:crosses val="autoZero"/>
        <c:auto val="1"/>
        <c:lblAlgn val="ctr"/>
        <c:lblOffset val="100"/>
        <c:noMultiLvlLbl val="0"/>
      </c:catAx>
      <c:valAx>
        <c:axId val="3673663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11609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DFD33-3F94-4B1E-9490-94B44370C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E400B-2044-4FA8-BE5E-C8DC62C6F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0F916-B646-41EB-A87F-BA455B23B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7D867-12DE-4E13-B200-6D82D7074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7D2E1-0588-484B-9C23-BEFAC7D0B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494BE-9799-46CD-9BE5-D92BF44A9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DA8B1-6F57-4393-AD26-0AE89168C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B5FE2-C4B2-434C-8162-57F5A86DD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53262-41B3-4EFA-B66C-687082CBD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A36AC-0F26-4EAE-ABA1-9F6F7140F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15BDD-2028-4756-8993-A721C0DA2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AB4AF-AAE6-4B49-8072-10251F7B9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138151-33BB-4FFB-84A4-EC8E4D7B5CC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