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03806"/>
        <c:axId val="50938698"/>
      </c:barChart>
      <c:catAx>
        <c:axId val="83103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38698"/>
        <c:crosses val="autoZero"/>
        <c:auto val="1"/>
        <c:lblAlgn val="ctr"/>
        <c:lblOffset val="100"/>
        <c:noMultiLvlLbl val="0"/>
      </c:catAx>
      <c:valAx>
        <c:axId val="509386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03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3CD5-BEBB-4AAE-B72B-56BD0716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BE3-B4BD-4F7B-8705-14DDEAC6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FE8-947B-4F3F-98C5-C1ABAF36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43A-0706-4075-BE53-F8E38AE1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5C1-9A96-4289-9BEC-8725918D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E740-B305-4EFB-B62A-0C9E88BF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051-1327-4047-A14F-8A6D9097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1358-7DDF-40EB-81B6-D5305EF1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B16-8805-4771-8310-CF5818F3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26D-3137-4F3E-9A0C-F962C8F4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D44-1C0A-4F96-AE2E-48A6B72C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D505-FEA1-43FB-80A5-DB4C6FFF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A462D-A362-4F7F-89AD-186333FD1D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