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29000"/>
        <c:axId val="1656857"/>
      </c:barChart>
      <c:catAx>
        <c:axId val="90029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6857"/>
        <c:crosses val="autoZero"/>
        <c:auto val="1"/>
        <c:lblAlgn val="ctr"/>
        <c:lblOffset val="100"/>
        <c:noMultiLvlLbl val="0"/>
      </c:catAx>
      <c:valAx>
        <c:axId val="1656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29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08C-7976-4A86-BFA4-AFB63E0F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355-FD60-4374-93C2-9DD374DD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A94-5A7B-447A-AF87-3BAD28DD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743-8F41-4E16-B532-68DCD95D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758-F197-48CB-9349-E3B58802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80B-8E02-4C24-9B2C-31173303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8E45-DE5F-4C5F-BFB6-50B1D0EB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B9A-B602-41DD-A56E-735949EC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691-0754-465E-AAF3-9FDE85F9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1FA-5858-44FB-BE56-E31B9F6E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78E-845A-45A9-B735-FE159940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B2D-D4C4-4947-88A1-73EDF833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7FC95-122B-4B07-96C8-75359AA54F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