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67983"/>
        <c:axId val="95336520"/>
      </c:barChart>
      <c:catAx>
        <c:axId val="56867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36520"/>
        <c:crosses val="autoZero"/>
        <c:auto val="1"/>
        <c:lblAlgn val="ctr"/>
        <c:lblOffset val="100"/>
        <c:noMultiLvlLbl val="0"/>
      </c:catAx>
      <c:valAx>
        <c:axId val="95336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67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9E0-18BD-4C95-8EE0-C43CA17F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01F-C990-4A33-9306-54705A6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21D-FB51-4D60-BBC2-8BDC136C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43F-2C5D-44B9-A24D-E6B6D5AA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886-04BA-49D2-B3C7-8A9E5AB2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BDA-CFC3-4303-B45B-A7F9EF7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FBA-3359-4DBC-B366-FEED0DA4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219-262A-4F27-8B1E-1CBC410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503-FF3D-428B-8202-7ABC32A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6B2-B7B3-4250-BF2C-F76E1F4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1F4-031D-4A02-80C8-DD2B829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731-E6A1-44A6-A937-4C1330B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940ED-DC6C-411C-B92C-FC81D5A917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