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7081"/>
        <c:axId val="49420342"/>
      </c:barChart>
      <c:catAx>
        <c:axId val="9567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20342"/>
        <c:crosses val="autoZero"/>
        <c:auto val="1"/>
        <c:lblAlgn val="ctr"/>
        <c:lblOffset val="100"/>
        <c:noMultiLvlLbl val="0"/>
      </c:catAx>
      <c:valAx>
        <c:axId val="49420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7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A89-A3A3-4352-A804-5F8D3FE4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5F4-9349-40E2-A4F6-A27AD708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EAD-5F73-4DD5-BF3F-F463E96B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D05-90A2-4F61-B251-4F4B1F89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BC0-7910-496F-9D10-7D48561D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681-3682-47AA-9E99-0BB91409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408-D251-4354-A600-A6555AAE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6A5-87A9-449F-8461-559FF588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820-9B73-4617-A2B9-FAA164A7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ED5-36D4-4C3B-B15E-A6DED667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645-79AE-429D-A9D1-F7F04EE3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31D-86E9-4E55-BFE3-596A1AE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2B002-2278-4891-8B7A-6210F5BA1B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