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89580"/>
        <c:axId val="67469165"/>
      </c:barChart>
      <c:catAx>
        <c:axId val="86389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69165"/>
        <c:crosses val="autoZero"/>
        <c:auto val="1"/>
        <c:lblAlgn val="ctr"/>
        <c:lblOffset val="100"/>
        <c:noMultiLvlLbl val="0"/>
      </c:catAx>
      <c:valAx>
        <c:axId val="67469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89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844-5C1B-4FF4-AE6F-1FDDD9F5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EED-C1D2-41E1-9D67-D6588C28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AF6-5D2C-45F0-A5D2-B95D219F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AD7-9384-45D0-A228-9F51604C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34B-B5C6-49AB-873B-9A716C6D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908-BDA7-4BB7-A0EB-C27F0F3B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B1A-F54F-4140-94FE-0D7C7D0B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FBB-3A67-4BBE-A2E0-13DF9998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932-A47A-45CA-A9A9-8D08F00F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27D-FFB5-4868-9587-608E7E9B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A54-B5B4-4E91-A968-09CFA0DC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5B0-A13B-4B38-8008-7B2BF570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B9BF2-CC82-49BA-813E-9A8584F60F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