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27907"/>
        <c:axId val="70428489"/>
      </c:barChart>
      <c:catAx>
        <c:axId val="44627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28489"/>
        <c:crosses val="autoZero"/>
        <c:auto val="1"/>
        <c:lblAlgn val="ctr"/>
        <c:lblOffset val="100"/>
        <c:noMultiLvlLbl val="0"/>
      </c:catAx>
      <c:valAx>
        <c:axId val="70428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27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27CC-99B0-43AB-8365-EEF31455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91F-23EE-4C71-B4D2-F43DC229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5F4-14BE-4096-906B-94A51DDB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05F-50DF-49F3-BF14-5A532CF4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A4F-DF60-49CF-8B28-4C4197CB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8D3-3E88-4772-939F-0542F09F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233-F472-44E7-BEA3-EFA2550F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840-EE76-4670-9C9C-188BCA0B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5F2-8FF1-4681-909F-DA082E62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585-3860-4012-BAF8-FE87D6FF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929-933E-470B-BC18-241AABC3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26D-A0DB-48D9-8E33-039FF503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2343C-C51E-41FF-AB37-A17B23964A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