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278062"/>
        <c:axId val="27791362"/>
      </c:barChart>
      <c:catAx>
        <c:axId val="922780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91362"/>
        <c:crosses val="autoZero"/>
        <c:auto val="1"/>
        <c:lblAlgn val="ctr"/>
        <c:lblOffset val="100"/>
        <c:noMultiLvlLbl val="0"/>
      </c:catAx>
      <c:valAx>
        <c:axId val="277913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2780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3383-E112-4CF8-960E-4DFF1B2B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E0A-D2AB-47D0-AE9A-A49F03B4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BF7-9CF2-45EA-B340-A0F6617B9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848-4E92-4B5D-BD94-197A3AFB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1A73-7A97-4D94-9E2D-50E85CA3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8A7-BDD7-4159-8D8B-03444EBA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1A2-E1B8-46D5-A0E8-81C6C24B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2A0F-BB1A-432E-8D9F-1A8279F7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1B82-8154-41C6-9D41-7706CDE9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92D-0D35-46AF-AB81-64569833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EA8B-593A-40C2-B441-48274DF2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350-C4E3-4BAD-B030-66CAA41D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6E0A9-A565-4A94-BD9B-095ED85FF2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