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F8C2F-CB8B-498B-9435-A2539F4B7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288D3-D972-4592-A659-BACB42CA6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CC301-EBFC-4BED-BEEE-A13934DC1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20BB6-87FC-4AA8-B581-584650778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143D7-91EC-4561-AB2A-3F902F79E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A53C1-049A-4F31-81A7-8D6DA2648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E6CA7-F9CA-4999-A25D-69D3DECE5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E08E1-6C66-498B-85A1-385B73CD3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77DA6-94F7-4E86-AE58-564C2E481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6F5F9-3D21-4DCF-8CDF-0CB6E48F0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54AD7-8E95-4144-9B10-4A321838F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B7257-5367-468A-A8A3-BCE523CC1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1FE0E-CCCA-4EBC-B65B-063FBC98FF82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44964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10656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34920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Vertic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Horizont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uble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965680 w 7197480"/>
              <a:gd name="textAreaRight" fmla="*/ 4231800 w 7197480"/>
              <a:gd name="textAreaTop" fmla="*/ 1482840 h 3598560"/>
              <a:gd name="textAreaBottom" fmla="*/ 21157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5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8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16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2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32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148920 h 35985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21:57Z</dcterms:created>
  <dc:creator>tb121644</dc:creator>
  <dc:description/>
  <dc:language>en-US</dc:language>
  <cp:lastModifiedBy>tb121644</cp:lastModifiedBy>
  <dcterms:modified xsi:type="dcterms:W3CDTF">2005-05-25T11:22:14Z</dcterms:modified>
  <cp:revision>1</cp:revision>
  <dc:subject/>
  <dc:title>Slide 1</dc:title>
</cp:coreProperties>
</file>