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776E-60B6-408C-80ED-EF22BB7E4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4C7E-C3E6-44F3-A2C9-A2F3B7BC6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F992-320D-48F5-9BDA-42372F2CD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D9CF-15BE-401F-9A1A-A9E6E7094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A286-C1E6-4E12-87EA-947EA3A08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1B1C-516A-4489-AC7D-259504340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A6BF-2D42-4320-8091-E7CE1C9EB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694D-F954-4333-AE5F-70B64E5D0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5076-A300-4CDE-834B-69250CCC2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7DA0-B6E6-4A71-88DE-89E0AF96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E2B7-C084-4BD5-8DEA-B66EE5CA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514D-9F14-4325-9CC7-C7F9A4CDB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122280" y="6613200"/>
            <a:ext cx="1436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685800" y="6613200"/>
            <a:ext cx="24400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8bb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4482720" y="6613200"/>
            <a:ext cx="4683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63356-D35E-45F1-8435-56867423125D}" type="slidenum">
              <a:rPr b="0" lang="nl-NL" sz="900" spc="-1" strike="noStrike">
                <a:solidFill>
                  <a:srgbClr val="008bb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-1440"/>
            <a:ext cx="9123480" cy="954000"/>
          </a:xfrm>
          <a:prstGeom prst="rect">
            <a:avLst/>
          </a:prstGeom>
          <a:solidFill>
            <a:srgbClr val="a6a6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55040" y="-1440"/>
            <a:ext cx="1488960" cy="9554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5792760" y="-22320"/>
            <a:ext cx="1585800" cy="9748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14400" y="-27000"/>
            <a:ext cx="9123480" cy="318960"/>
          </a:xfrm>
          <a:prstGeom prst="rect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317520"/>
            <a:ext cx="9123480" cy="31752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35040"/>
            <a:ext cx="9123480" cy="3175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31752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3504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0" y="95256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e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4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73200" cy="311040"/>
          </a:xfrm>
          <a:prstGeom prst="rect">
            <a:avLst/>
          </a:prstGeom>
          <a:ln w="0">
            <a:noFill/>
          </a:ln>
        </p:spPr>
      </p:pic>
      <p:sp>
        <p:nvSpPr>
          <p:cNvPr id="15" name=""/>
          <p:cNvSpPr/>
          <p:nvPr/>
        </p:nvSpPr>
        <p:spPr>
          <a:xfrm flipH="1">
            <a:off x="-360" y="6467400"/>
            <a:ext cx="70326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bb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0" y="4680"/>
            <a:ext cx="9144000" cy="2548080"/>
            <a:chOff x="0" y="4680"/>
            <a:chExt cx="9144000" cy="2548080"/>
          </a:xfrm>
        </p:grpSpPr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0" y="4680"/>
              <a:ext cx="4146840" cy="254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6152760" y="319320"/>
              <a:ext cx="2349000" cy="99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1595520"/>
              <a:ext cx="9144000" cy="317880"/>
            </a:xfrm>
            <a:prstGeom prst="rect">
              <a:avLst/>
            </a:prstGeom>
            <a:solidFill>
              <a:srgbClr val="7fa1b6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913760"/>
              <a:ext cx="9144000" cy="318960"/>
            </a:xfrm>
            <a:prstGeom prst="rect">
              <a:avLst/>
            </a:prstGeom>
            <a:solidFill>
              <a:srgbClr val="7fa1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2233080"/>
              <a:ext cx="9144000" cy="319320"/>
            </a:xfrm>
            <a:prstGeom prst="rect">
              <a:avLst/>
            </a:prstGeom>
            <a:solidFill>
              <a:srgbClr val="7fa1b6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1400" bIns="414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14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191376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223308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59552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2057400" y="5803560"/>
            <a:ext cx="6618240" cy="3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bb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-22320" y="0"/>
            <a:ext cx="9166320" cy="6453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rcRect l="0" t="0" r="0" b="9820"/>
          <a:stretch/>
        </p:blipFill>
        <p:spPr>
          <a:xfrm>
            <a:off x="0" y="5791320"/>
            <a:ext cx="9145440" cy="10666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-1440" y="0"/>
            <a:ext cx="9145440" cy="325440"/>
          </a:xfrm>
          <a:prstGeom prst="rect">
            <a:avLst/>
          </a:prstGeom>
          <a:solidFill>
            <a:srgbClr val="0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-1440" y="325440"/>
            <a:ext cx="9145440" cy="32220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-1440" y="647640"/>
            <a:ext cx="9145440" cy="3254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-1440" y="3254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1440" y="6476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1440" y="97308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66720" cy="3096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31800" y="350532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11280" y="4149720"/>
            <a:ext cx="820872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0"/>
          </a:bodyPr>
          <a:p>
            <a:pPr marL="34200" indent="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2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3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4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5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6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8bbf"/>
                </a:solidFill>
                <a:latin typeface="Arial"/>
              </a:rPr>
              <a:t>Flood risk assessmen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057400" y="4113000"/>
            <a:ext cx="66182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Arjen Marku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Deltare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8bbf"/>
                </a:solidFill>
                <a:latin typeface="Arial"/>
              </a:rPr>
              <a:t>(previous name: WL | delft hydraulics)</a:t>
            </a:r>
            <a:endParaRPr b="0" lang="en-US" sz="12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Hydrodynamic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ne-grained terrain model (100 x 100 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 simulated using “standard” curves – known for a range of maximum flood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eriod to simulate: roughly two weeks to three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simulation takes several days or even weeks to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ing victims, damag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population density and land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water levels and flow velocities from hydrodynamic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IS-based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 for each indicated are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number of victi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mount of economic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e the risk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mbine the results for all scenar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isk is expected number of victims or amount of damage – so multiply with probability of occur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istogram: what is the most likely number of casualti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411280" y="3645000"/>
            <a:ext cx="381024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anaging the computation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fferent programs run on different sites or comp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, starting and checking the computations has to be autom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set of 300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s take too l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cl turns out to be almost perfect for the jo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Preparing the hydrodynamic computation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pying the (fixed) input files for each computation to a separate dire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ading the XML file with flood parameters and dike strength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the timeseries for the flood wave and adjusting various input fi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[clock], [string map], [file copy] are the tools h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Interlude: some cod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constructTimeseries {begin series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series {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begintime [clock scan $begi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offset    [lindex $series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time rate} $series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econds [expr {int(86400*($time-$offset))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datetime [expr {$begintime+$seconds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time [clock format $datetime -format \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"'%Y/%m/%d;%H:%M:%S'"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ppend sobekseries "$sobektime $rate &lt;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Trick: using a list suppresses an end-of-line at the end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join $sobekseries \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hydrodynamic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eduling the jobs on the Linux clu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 too many at a time though (I am not the only us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gistering the statu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the job start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it finished? If so, successful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it been analys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mall files with specific names flag that status (“running”, “done”, “analysed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ript runs via the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cro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tility – so I keep the system bu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risk estimation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pying the result files from the various direc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apting the input files for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nning it in batch mode (it was originally a GUI 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xtracting the relevant inform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outfile [open "hisssm-samenvatting.txt" w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each file [glob -nocomplain "*-agg.txt"]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{ $areas == {}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[extractAreaDescrip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 write header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scenid  [extractScenarioId 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numbers [extractInforma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ts $outfile "$scenid\t[join $numbers \t]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Lessons learned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raceability and monitoring: being able to analyse what went 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utomate as much as possible: you may need to repeat the exerci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an you run the programs in batchmo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ll a database with scenarios (here: the file syst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goes through various sta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–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eps in the chain of individual comput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rdering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betwe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scenarios is irrelev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s contain status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e"/>
                </a:solidFill>
                <a:latin typeface="Arial"/>
              </a:rPr>
              <a:t>The problem: river flood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rivers in the Netherlands surrounded by dik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 breaches are a hazard to be dealt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s need to be heigh enough an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tron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project: comprehensive approa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has the following inform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 ID (directory name containing all the fi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tus (not started yet, running, finished, analy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selects a scenario with the right status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rts the computational program that belongs to that stat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erms of tuplespaces: a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 – the record is taken o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f the data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hen the computational program finishes, a new record is writt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his case the stages of the computation 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eparation: from the XML file to a set of input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: flood wave and dik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alysis: has the computation succeed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success, estimate casualties and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not: identify why no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tuplespace apprach means the scheduler program needs to k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hing of the stage of each scenario. It simply scans the directo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4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are this to approaches found in literat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mal specification of the computational steps (often via X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description of the complete computation needs to be analysed and trans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oops (iterations) are expa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keeps track of the stages of the compu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loop in this set-u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imply write a record with the same status, until the stop criteri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fulfil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pin-off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a series of computations is useful (to me) in other projects to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 instance: optimising the location of a waste water discharge in a coastal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ork in progre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arious ways of dealing with a series of compu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ossibility of calibration, not just selecting an altern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exibility in defining the varia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1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881440" y="1482840"/>
            <a:ext cx="35049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urrounded by Rhine and M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pproximately 2 million peo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veral major c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griculture important a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460520" y="1482840"/>
            <a:ext cx="63453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iver system behaviour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 breach can mean: lower water levels down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ut also: pressure from the land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delling approa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 locations for possibl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e the water flow in the rivers and over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 casualties and economic damag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Typical resul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154160" y="1482840"/>
            <a:ext cx="695952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866960" y="1482840"/>
            <a:ext cx="553248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Scenario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nte Carlo simulation: Setting up the sce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s have stochastic properties: maximum flow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s vary in strength – parameters known approximately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raw parameters for each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lation flow rate – water levels 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: dike breach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: 3 x 100 scenarios (for different sets of potential breach loc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04:19:57Z</dcterms:created>
  <dc:creator>markus</dc:creator>
  <dc:description/>
  <dc:language>en-US</dc:language>
  <cp:lastModifiedBy>markus</cp:lastModifiedBy>
  <dcterms:modified xsi:type="dcterms:W3CDTF">2009-08-31T09:23:30Z</dcterms:modified>
  <cp:revision>14</cp:revision>
  <dc:subject/>
  <dc:title>Flood risk assessment</dc:title>
</cp:coreProperties>
</file>