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49D6-CDF1-44AC-BED6-9FA5A551A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F868-DFC6-4A1B-9A85-615A5C880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AB46-8422-4EA6-84B6-80DCA592E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E886-74E3-4A69-A912-D943ABB2F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0F756E-F220-4974-9A41-076F35E9404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0B1CCD-D393-4015-96D1-F29CCCBC86B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38D98A-773E-4383-857B-0EEC00DBA28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720942-2EBD-4DCB-B054-D19F65C145B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B92012-2389-45F9-B541-F8BA12D9EF7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96D8DC-E6A1-4B3E-82C2-DEDAB9AE8B5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31EF54-B048-427E-A2B6-13681F87AB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59FC-BE7B-4CB5-B8AC-012E92736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424307-6523-4DEF-864C-C2CCF2C1A0A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8CF628-13B2-4648-98DC-6EE5849329E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6E8680-DD84-40CC-A2CB-E918C68AB7E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D14F96-887B-4643-9108-6BB0D929055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53ACAE-228D-469A-AA5B-53236FA0FF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F49F-719F-456D-ACA3-B31ABBF1F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547C-DA23-4D1B-8706-271EE558B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1262-EE02-4FC6-8F53-791FF1685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F2F0-5E78-41BE-AA31-12237E590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B95A-292E-45E0-BE9B-7EE9CCCF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B169-02B9-4782-91A7-46E0FEFB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B4BD-482B-4E4A-BF91-65FDEAB5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583FE-39A6-49A8-B85C-62F7785480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17790-425D-41BE-B1F0-5EBF3652F8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3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Pro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3.4.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52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scitated TclPro as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clPro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Pro 2.0 now in b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patch release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3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added in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 release, now at 8.4b1-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just been feature-fro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pinbox, labelframe, panedwind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d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FS,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%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/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amburg, June 8-9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4 Original papers and tuto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rom using Tcl with Cobo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the Web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a PDA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Carsten Zerbst</a:t>
            </a:r>
            <a:br>
              <a:rPr sz="3200"/>
            </a:br>
            <a:br>
              <a:rPr sz="3200"/>
            </a:b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u-harburg.de/skf/tcltk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6:31Z</dcterms:modified>
  <cp:revision>405</cp:revision>
  <dc:subject/>
  <dc:title>Tcl'Europe 2002 State of Tcl</dc:title>
</cp:coreProperties>
</file>