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6451877"/>
        <c:axId val="46697752"/>
      </c:barChart>
      <c:catAx>
        <c:axId val="7645187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697752"/>
        <c:crosses val="autoZero"/>
        <c:auto val="1"/>
        <c:lblAlgn val="ctr"/>
        <c:lblOffset val="100"/>
        <c:noMultiLvlLbl val="0"/>
      </c:catAx>
      <c:valAx>
        <c:axId val="4669775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45187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F104-553D-4B95-AF52-C8653E4FE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F7EA-DD00-4593-82A6-2C623CA47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B152-CFC1-4018-9221-A4008BD22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7EC6-B052-4BCE-93B7-2CE546D76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5DD1-A7D6-4AD9-AC57-7047BDDF8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FF94-FDFB-4100-9363-9C02398F0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75CC-E974-467E-87A1-31A538FDB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B7B8-3D01-4A00-A5FB-B3B1578DC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B8B5-3A68-438C-AF83-60541C053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0110-9D3A-4D84-B1D1-50EECC1F2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AEA5-A49B-44DA-AA00-10BB09097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6395-817E-4839-A4BF-3F18AD40E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82BDC5-6A00-4457-9E0E-A49AFE33273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