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B78F7-E4BD-4C35-9924-6F39237727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618086-7BF9-4295-B26C-94C40DD805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07C73F-2DB3-47AF-9425-694DA98F6F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BC2999-6995-4C83-B315-198F258E89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71541F-427A-470F-A1CD-6ADCE5298B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C00B96-9E56-4ECA-993F-52516FC80A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12BAD8-9195-4252-BDE0-148805E00B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F5CCE9-A593-4716-8533-F0429BC87D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F0C58-0790-47D4-9DBE-7F3637B69F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29E06A-9D4A-4D18-8411-7A62CC3899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61117-31C3-4F27-B955-A7B0ACD5FC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7FE90-CB7B-412A-A17B-A3EF22853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4C6AB-E113-41A0-B829-BEA42DB62A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85C8D-AF72-4A1B-8064-8BE1378E02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6"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67"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68"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sp>
        <p:nvSpPr>
          <p:cNvPr id="69"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0"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1"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2" name=""/>
          <p:cNvSpPr/>
          <p:nvPr/>
        </p:nvSpPr>
        <p:spPr>
          <a:xfrm>
            <a:off x="4267080" y="4572000"/>
            <a:ext cx="213372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73"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4"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75"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76"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638680" y="6248520"/>
            <a:ext cx="990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3" name=""/>
          <p:cNvCxnSpPr>
            <a:stCxn id="73" idx="2"/>
            <a:endCxn id="84" idx="1"/>
          </p:cNvCxnSpPr>
          <p:nvPr/>
        </p:nvCxnSpPr>
        <p:spPr>
          <a:xfrm flipH="1" flipV="1" rot="10800000">
            <a:off x="684720" y="2818080"/>
            <a:ext cx="686520" cy="2553120"/>
          </a:xfrm>
          <a:prstGeom prst="bentConnector3">
            <a:avLst>
              <a:gd name="adj1" fmla="val -33315"/>
            </a:avLst>
          </a:prstGeom>
          <a:ln w="9360">
            <a:solidFill>
              <a:srgbClr val="000000"/>
            </a:solidFill>
            <a:miter/>
            <a:tailEnd len="med" type="triangle" w="med"/>
          </a:ln>
        </p:spPr>
      </p:cxnSp>
      <p:cxnSp>
        <p:nvCxnSpPr>
          <p:cNvPr id="85" name=""/>
          <p:cNvCxnSpPr>
            <a:stCxn id="74" idx="1"/>
            <a:endCxn id="73"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86"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87"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
        <p:nvSpPr>
          <p:cNvPr id="84" name=""/>
          <p:cNvSpPr/>
          <p:nvPr/>
        </p:nvSpPr>
        <p:spPr>
          <a:xfrm>
            <a:off x="1371600" y="5029200"/>
            <a:ext cx="41911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88" name=""/>
          <p:cNvSpPr/>
          <p:nvPr/>
        </p:nvSpPr>
        <p:spPr>
          <a:xfrm>
            <a:off x="1371600" y="5867280"/>
            <a:ext cx="4267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Charles Crouch</cp:lastModifiedBy>
  <dcterms:modified xsi:type="dcterms:W3CDTF">2005-04-14T14:21:23Z</dcterms:modified>
  <cp:revision>45</cp:revision>
  <dc:subject/>
  <dc:title>JBN Admin</dc:title>
</cp:coreProperties>
</file>