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62725"/>
        <c:axId val="77206496"/>
      </c:barChart>
      <c:catAx>
        <c:axId val="51562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06496"/>
        <c:crosses val="autoZero"/>
        <c:auto val="1"/>
        <c:lblAlgn val="ctr"/>
        <c:lblOffset val="100"/>
        <c:noMultiLvlLbl val="0"/>
      </c:catAx>
      <c:valAx>
        <c:axId val="77206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62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A7C-2AFD-439C-B3EA-F5C1DE4A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219-57A1-4B40-808B-3F772A9D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D69F-DFAA-41C8-AB2B-750E90D7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65F6-3D94-45B5-AFE2-D7BBBB5E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11E-94A8-41DE-95EB-CEB824F2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1D8-DD4F-4772-AED6-5DA41D64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5B3-45FB-4E4E-A505-874D1662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D48-5208-4D82-9F2C-AF568A94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ED6-AF7E-47C5-8879-CB37C575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05E-3A19-40F6-8DC7-92D00EA1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4D8-03F2-4F58-A379-7C0D83C5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689-2563-4D3D-86A9-E3B3535B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6E1FB-FA68-4F0C-B95D-14405000B9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