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48348"/>
        <c:axId val="12219017"/>
      </c:barChart>
      <c:catAx>
        <c:axId val="91748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19017"/>
        <c:crosses val="autoZero"/>
        <c:auto val="1"/>
        <c:lblAlgn val="ctr"/>
        <c:lblOffset val="100"/>
        <c:noMultiLvlLbl val="0"/>
      </c:catAx>
      <c:valAx>
        <c:axId val="12219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48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881-14B0-4B03-A2B5-23487662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543-5809-41D2-9D0F-F988B47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920-1331-4FAE-B0FB-01DB6060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E36-5086-4089-963A-64BAC9C3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87D-A653-4970-A789-A36DB49D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6BB-99EB-47B6-88B5-59694001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82F-C9D9-484C-87C6-4A24B3A3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714-C8FF-436F-BA9F-017DAEA9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B43-83FF-4E9D-8254-2BAB78DB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D26-3860-4729-8B90-E32EF389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AF5-7C0E-4E5A-A6CF-3749A957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D70-CB4E-4C59-9121-F329FD4A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32DB3-F2A4-44B4-9D94-0CFFDCF067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