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74203"/>
        <c:axId val="56673180"/>
      </c:barChart>
      <c:catAx>
        <c:axId val="20074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73180"/>
        <c:crosses val="autoZero"/>
        <c:auto val="1"/>
        <c:lblAlgn val="ctr"/>
        <c:lblOffset val="100"/>
        <c:noMultiLvlLbl val="0"/>
      </c:catAx>
      <c:valAx>
        <c:axId val="56673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4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ACD-8FA8-4F08-BBD7-61BD5AAD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F4D-7319-4BDF-BA35-B262B0F1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A85-3D73-40B6-B595-74C1CAB0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B3A-1477-4532-8099-FF5F28CA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D0E-15E8-4E51-8001-B978634E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3E3-41FE-41B7-BA5B-402950CA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81B-1562-47CE-A633-312E9BBC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41E-540C-42C7-8DEE-EC360B6A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604-84F8-46A9-9597-1D6B22C0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9AC-83F2-4BE5-AB85-76DF4C9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5AD-2F89-484A-8711-B04D5082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8C6-3003-4A22-9138-42DA15D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37824-FB7F-46F3-A4E1-3087956D1E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