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388936"/>
        <c:axId val="81396861"/>
      </c:barChart>
      <c:catAx>
        <c:axId val="83388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396861"/>
        <c:crosses val="autoZero"/>
        <c:auto val="1"/>
        <c:lblAlgn val="ctr"/>
        <c:lblOffset val="100"/>
        <c:noMultiLvlLbl val="0"/>
      </c:catAx>
      <c:valAx>
        <c:axId val="81396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88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BB95-EBA9-4DCC-BE02-2F7801A8F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211A-011C-4C21-A85D-C54B5B039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738E-C492-4E17-BBB7-38766EEAE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2058-7203-4CB1-A6AB-7DF86E35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23C-06E5-4AFC-9A09-67F232098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4B34-CFCA-419D-A0C6-3C835A42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B24-8D79-41B5-B394-B28954D6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968-5992-45CC-942A-5D678085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590F-39EF-4870-B2E1-E5950FD52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E8E1-726E-44EE-B963-88F12966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753-5E06-40B2-8DD6-07AEC5B6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F860-8E7B-4932-A941-972A0860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C378B5-4BB9-4FE7-9079-0CDD3BD0D5E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