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179313"/>
        <c:axId val="78674075"/>
      </c:barChart>
      <c:catAx>
        <c:axId val="321793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674075"/>
        <c:crosses val="autoZero"/>
        <c:auto val="1"/>
        <c:lblAlgn val="ctr"/>
        <c:lblOffset val="100"/>
        <c:noMultiLvlLbl val="0"/>
      </c:catAx>
      <c:valAx>
        <c:axId val="786740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793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2CC5-3951-4398-B52C-312E78FA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58F5-0816-47D8-9C6C-77DFB048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D3C7-2286-4799-AC45-C9AA7E69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20C3-F6A0-4484-8DB1-8BE49C28A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0D8A-B3B7-4E3A-BAE8-ACBE6048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3804-12B4-411A-A337-7C1F6C16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C007-7818-46A2-995B-60171D4E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E7C1-BB60-4F8E-8EEE-DA8AE436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7B3B-D0A1-4CD2-B8AF-7BA685AB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4402-3132-4EDF-BE43-E754B959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37C9-83C4-4668-B12D-5D371E57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3740-DBB2-4709-820C-C7976BFF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2CF57-EE8E-40E3-AF41-BDC77A2552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