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0956"/>
        <c:axId val="86719328"/>
      </c:barChart>
      <c:catAx>
        <c:axId val="8030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9328"/>
        <c:crosses val="autoZero"/>
        <c:auto val="1"/>
        <c:lblAlgn val="ctr"/>
        <c:lblOffset val="100"/>
        <c:noMultiLvlLbl val="0"/>
      </c:catAx>
      <c:valAx>
        <c:axId val="86719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0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9BF-9106-4B09-A28C-2E620D15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E46-AE16-4D40-8BB7-B2EAF695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FDF-2134-4AC6-86C7-13097BB2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D3C-978A-4818-95FF-7EC46591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C3D-4B18-4C26-AD1E-C9DFB50A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D3A-B73B-472C-825C-D7AF5DFB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265-8874-46EB-BC02-40624F6B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E19-0033-4EE5-85E4-BE6803DD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980-8127-40D8-A5BB-BB7DA466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30E-2C4C-447A-9CEF-CA55352E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CA6-8917-47C7-9F5D-7EA90A9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481-ED5F-40FE-9497-96983186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F79FE-9444-4CB5-8E91-230208FDB2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