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35801"/>
        <c:axId val="43976012"/>
      </c:barChart>
      <c:catAx>
        <c:axId val="93035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76012"/>
        <c:crosses val="autoZero"/>
        <c:auto val="1"/>
        <c:lblAlgn val="ctr"/>
        <c:lblOffset val="100"/>
        <c:noMultiLvlLbl val="0"/>
      </c:catAx>
      <c:valAx>
        <c:axId val="43976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35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051-4352-4C40-9DBB-0F7D18A7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759-798F-4D51-9CC4-6B3C6509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CBF-55F6-4BE1-9062-78869880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34C4-5C02-4C27-9BBC-E31394A8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B22-6DC2-49E5-A0E2-CBDF5553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E80-C07C-4DAB-B47A-F62F0524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EB8-BD5B-4A06-8875-87C05E3E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6BA-E4EB-4998-BEB4-FC83B21B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9A9-256B-486E-91D6-C5B84781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ED6-3008-4B67-A3D3-135E1E94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0A6-93FA-4CBA-96A6-92DF0CE4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73B-A764-406A-9D14-E53C67BD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627B1-FE74-4C4F-ABA0-8F5ED48AE2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