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16027"/>
        <c:axId val="64656274"/>
      </c:barChart>
      <c:catAx>
        <c:axId val="40316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56274"/>
        <c:crosses val="autoZero"/>
        <c:auto val="1"/>
        <c:lblAlgn val="ctr"/>
        <c:lblOffset val="100"/>
        <c:noMultiLvlLbl val="0"/>
      </c:catAx>
      <c:valAx>
        <c:axId val="64656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16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F21-13D4-4BC8-BF47-E9C0C71E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7A3-6E12-44E7-B99B-3D5E2FAD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3A8-EB69-4267-99BB-5C5F0A8E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B2B-7B24-4380-8614-49DCFBCF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ACC-263E-49B2-A3A9-4631EC8F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1C4-2E57-4EEB-8B4C-DDE863E0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1A1-CC5E-474E-9957-DCCF2ACA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3D5-3CD7-4E97-8C16-862CF365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089-255A-4CEC-B211-0C97076A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014-4551-40D5-A175-2F387EF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0C4-619A-4675-AA26-44E99722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668-B2B0-47F3-847C-67FCCA96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08171-7089-4526-A505-5D509EE236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