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41391"/>
        <c:axId val="23197756"/>
      </c:barChart>
      <c:catAx>
        <c:axId val="70041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97756"/>
        <c:crosses val="autoZero"/>
        <c:auto val="1"/>
        <c:lblAlgn val="ctr"/>
        <c:lblOffset val="100"/>
        <c:noMultiLvlLbl val="0"/>
      </c:catAx>
      <c:valAx>
        <c:axId val="23197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41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5EB-91E7-4828-A388-C93C5CAD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F55-286A-42B0-B508-AF1E942F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547-98C9-4AEC-97D2-44B6F45C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B50-B6F7-454B-9073-366C90AC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577-4A59-4A5A-9511-E51E43F1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CE8-ED5C-4F74-8722-8671820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454-C46A-42D2-84D6-9B355AC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EB4-1E24-4785-A1C9-A347924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572-7C30-4433-A683-E45E1522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023-6286-4098-ABD6-E23D15B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E46-8073-4F2F-826B-712703C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874-B475-4644-97CB-8257911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3F99-1508-49F2-A154-7D745A65AD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