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95996"/>
        <c:axId val="26434071"/>
      </c:barChart>
      <c:catAx>
        <c:axId val="26595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34071"/>
        <c:crosses val="autoZero"/>
        <c:auto val="1"/>
        <c:lblAlgn val="ctr"/>
        <c:lblOffset val="100"/>
        <c:noMultiLvlLbl val="0"/>
      </c:catAx>
      <c:valAx>
        <c:axId val="26434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95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CCC-A8AA-4EF4-A2CD-44643E98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111-607C-49E8-ADE2-42668016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03E-E547-4F25-840A-390248D4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D4D-4D89-488B-AE98-198A2B47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770-B43A-445D-8129-C3122900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56E-0F72-4559-9954-4E20F62C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630-A9B7-4725-A6F8-9F699A3D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B23-B7ED-4F07-A2CC-7D32AB52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F73-EA22-481D-A7A1-5238F2A3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1EE-7022-40EA-B04C-11A157C1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43D-9746-4544-B004-0CAA14FD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AFC-8AE2-4BB8-9B9F-C5AB29D2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BF8E5-126C-475A-8BDA-F0FD136540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