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47646"/>
        <c:axId val="83248803"/>
      </c:barChart>
      <c:catAx>
        <c:axId val="70647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48803"/>
        <c:crosses val="autoZero"/>
        <c:auto val="1"/>
        <c:lblAlgn val="ctr"/>
        <c:lblOffset val="100"/>
        <c:noMultiLvlLbl val="0"/>
      </c:catAx>
      <c:valAx>
        <c:axId val="83248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47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2CC-21AE-405C-A740-723FFF06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31A-87E8-4081-89B0-4214AA6D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571-AF04-4D9E-A578-1EDE9822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07B-4DD9-4782-854F-8437A968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D92-9A9F-4DE7-B3C7-744AF514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63F-55C5-404F-A452-5FB0383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C4B-04D9-4208-8ABE-0651EC52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A34-90EF-4C87-9A23-73603DE7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613-9FAF-4B4B-9655-1DF0155A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9A2-6966-4110-8A5B-8F5ECAE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358-A6A8-4ABC-AFD8-1B152C62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D38-52EF-48AB-843F-53BA19AA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25B9D-F4BE-45D6-BE87-8C92038F0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