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809729"/>
        <c:axId val="62691085"/>
      </c:barChart>
      <c:catAx>
        <c:axId val="948097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91085"/>
        <c:crosses val="autoZero"/>
        <c:auto val="1"/>
        <c:lblAlgn val="ctr"/>
        <c:lblOffset val="100"/>
        <c:noMultiLvlLbl val="0"/>
      </c:catAx>
      <c:valAx>
        <c:axId val="626910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097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B85D-D7EB-4C70-8139-33606493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EF27-8963-41E1-8F01-36C1E44E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1BBB-3810-4B23-8C08-0CAA8F6F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B28C-EDA0-4EEB-9C13-E8E11A64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ABF0-F9C1-4237-9D73-85C98D54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8681-9AD0-4679-B7DC-1CC31D16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C8D5-E31E-476F-AC2A-65CAFF56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AB7-971F-4514-B342-F413A5FB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BC77-B77D-4D6E-AA90-571AE5DF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E479-AB98-4A08-9AF2-3B6A4B31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B90E-E763-483A-94A0-EE001203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469E-F989-4162-8900-D37CD181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FE30E-1EFD-4331-A217-35297E3D8D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