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32607"/>
        <c:axId val="54149789"/>
      </c:barChart>
      <c:catAx>
        <c:axId val="51132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49789"/>
        <c:crosses val="autoZero"/>
        <c:auto val="1"/>
        <c:lblAlgn val="ctr"/>
        <c:lblOffset val="100"/>
        <c:noMultiLvlLbl val="0"/>
      </c:catAx>
      <c:valAx>
        <c:axId val="54149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32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B33-16A7-4B7C-8CC3-885ADD90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C52-3301-4A85-BB71-3CA9AB03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5E0-11A7-4354-84A0-A4960B49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0A9-5745-4948-8404-F255A7C1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17C-9203-445F-BDB0-A551F281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CBC-27AE-41A4-BBE5-A93404B3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267-0C4E-4A5F-8B20-0916B542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3E9-3B26-47CA-80BA-6DC94672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CA5-84A7-4712-A3CE-BF32E6BE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D56-AB06-439A-87A9-2939C30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5E6-CC89-48ED-8A07-8CE65DD6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E273-E409-4921-A9F7-F00FD31F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BAA7F-BD08-4029-96BE-B9AD22A92E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