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86601"/>
        <c:axId val="31969895"/>
      </c:barChart>
      <c:catAx>
        <c:axId val="563866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69895"/>
        <c:crosses val="autoZero"/>
        <c:auto val="1"/>
        <c:lblAlgn val="ctr"/>
        <c:lblOffset val="100"/>
        <c:noMultiLvlLbl val="0"/>
      </c:catAx>
      <c:valAx>
        <c:axId val="31969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866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0D7-14B4-45EE-88D5-A58026C0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3DA-137A-49B0-B89C-710D0366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E5C0-7CD3-429F-BB5B-6AF89E8E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95D-F38B-4057-A879-A1E2B266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7EC-58E4-44AB-A9D7-7FBDA6E9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834B-DAA6-4786-9FA7-1B37B72A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75C-D2DA-4657-A443-28F7DF13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71C-BC32-46DF-AF3B-C2813C50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37E-A284-4FEB-9EED-234AC5AC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9A43-4451-41C0-B58F-6CFC0B1F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530-38A3-4EE2-AB42-CA6BE74F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34CF-847B-4976-8D44-0DCA7300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1DB74-0F98-4475-B5BD-EFD1D9778A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