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46827"/>
        <c:axId val="30607784"/>
      </c:barChart>
      <c:catAx>
        <c:axId val="230468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07784"/>
        <c:crosses val="autoZero"/>
        <c:auto val="1"/>
        <c:lblAlgn val="ctr"/>
        <c:lblOffset val="100"/>
        <c:noMultiLvlLbl val="0"/>
      </c:catAx>
      <c:valAx>
        <c:axId val="30607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468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2828-1AF6-499A-ADF5-39407A63D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5785-F588-4E66-868E-C9BD44C9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2CA-FEB7-42E8-B8C0-416B2FCA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6A38-135F-4019-AB7D-8156FB569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8C2C-25D5-42BD-869A-DA3E5C5E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8CE-8F05-4762-BE1B-8FB7E0B4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E28-6892-4581-8B00-66128966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2A0-7AC9-4F5B-A641-CDC81EA7C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2EF8-CCDF-4BF8-9B10-6242BA35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7D2B-FE42-4E0A-9F5C-CC288E5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707-8FD6-49F6-83EF-2D8B6DD7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84C0-7950-431F-A32E-7D61E5162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B45B1-8B0F-4789-A41A-F799CCD0EF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