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63297"/>
        <c:axId val="11901306"/>
      </c:barChart>
      <c:catAx>
        <c:axId val="58463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01306"/>
        <c:crosses val="autoZero"/>
        <c:auto val="1"/>
        <c:lblAlgn val="ctr"/>
        <c:lblOffset val="100"/>
        <c:noMultiLvlLbl val="0"/>
      </c:catAx>
      <c:valAx>
        <c:axId val="11901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63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FA4-E801-49AC-9562-AC2E095E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5FD-452D-4CFB-9537-39D1D7F5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349-F74F-468B-89A5-8664D422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D2D-444C-49E1-879B-D53AB6BE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B12D-3812-40F1-AB9B-2D8C5635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9F0-26AB-465D-9872-EB6DAB5A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CB6-6351-4BD0-B2A1-D9433BFB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A49-5C90-4D4F-BC07-6A5FDCD2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1EE-1756-44CE-9293-7FDB7594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78F7-332E-4F5E-B73D-FFD1CE97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3A6-564C-4BC6-98F7-A543A31B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040-E242-4443-A6FF-A3C052D8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98315-57D4-43AB-A9EC-64DBFFAB9E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