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9092"/>
        <c:axId val="71012871"/>
      </c:barChart>
      <c:catAx>
        <c:axId val="3299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12871"/>
        <c:crosses val="autoZero"/>
        <c:auto val="1"/>
        <c:lblAlgn val="ctr"/>
        <c:lblOffset val="100"/>
        <c:noMultiLvlLbl val="0"/>
      </c:catAx>
      <c:valAx>
        <c:axId val="71012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9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7DD-140C-44DC-AAA4-A9A28E37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59D-9FE6-4036-AD00-67EFD970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D4A-3C9B-46C2-8FFC-147A029D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441-7E9F-4088-8746-811342B7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CF6-63FC-4742-B496-F7523ECC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CC3-95F8-4D74-AC09-678C69DD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2CA-FD72-4C39-977C-BBB523F2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A00-B424-45C1-B354-DD7FD6E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028-5A31-4452-863C-4B357E7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559-7A1E-44F7-8734-EB00BE6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864-7A93-4BAA-BCEE-40364D78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8F6-DFC2-418F-88C8-115F06B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FBCC3-9004-4478-9ECB-625DDC5591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