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699578"/>
        <c:axId val="78158274"/>
      </c:barChart>
      <c:catAx>
        <c:axId val="626995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58274"/>
        <c:crosses val="autoZero"/>
        <c:auto val="1"/>
        <c:lblAlgn val="ctr"/>
        <c:lblOffset val="100"/>
        <c:noMultiLvlLbl val="0"/>
      </c:catAx>
      <c:valAx>
        <c:axId val="78158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995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647B-7891-4C4D-A132-89BD7BC7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74A-600B-46CA-80BD-727A62D7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B24A-A50C-46C1-9C0F-501A0716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E11F-ADF4-498C-A9A1-2ED60BA65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2190-FC11-4478-8F90-C8C4FB23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F3F4-529D-48C1-969A-A72AC019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4F24-FFBE-42B5-A05A-A57B83A5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4679-3F4C-43EA-A2C4-E3C27E5A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0A28-C00F-47ED-BD07-74208E99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61A-2DF3-462F-9BB5-DB90FB20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B38-BF70-4142-A7EA-C9E72B95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D214-7437-475F-8B92-2673CFF1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07CD4-C000-4E72-B2CE-3FD70971D7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