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05647"/>
        <c:axId val="713413"/>
      </c:barChart>
      <c:catAx>
        <c:axId val="69105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413"/>
        <c:crosses val="autoZero"/>
        <c:auto val="1"/>
        <c:lblAlgn val="ctr"/>
        <c:lblOffset val="100"/>
        <c:noMultiLvlLbl val="0"/>
      </c:catAx>
      <c:valAx>
        <c:axId val="7134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05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AA2-E869-4FAD-AE78-B77F50EC1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F3FE-8714-4E74-9ABF-A0FDEAE5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8112-EEBB-4588-85CA-D7DAF4128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3AA1-A093-4931-9FD5-BD140692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F6C-97BF-4959-A463-2A424398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1D5-3991-4F55-A856-BD04CC87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5FD-1500-40D7-9F87-F0F35051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90F7-85B7-42A2-A88B-CA33B291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4493-AF80-4278-967F-6F67CC78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152-70FD-4A92-9D09-B92D6E7D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DD92-E27D-4188-80EF-B302CB78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BFAA-01F3-4130-8895-81CB635D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00DE3-F39E-4A10-B7E2-57C4060420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