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9732"/>
        <c:axId val="32754944"/>
      </c:barChart>
      <c:catAx>
        <c:axId val="1339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54944"/>
        <c:crosses val="autoZero"/>
        <c:auto val="1"/>
        <c:lblAlgn val="ctr"/>
        <c:lblOffset val="100"/>
        <c:noMultiLvlLbl val="0"/>
      </c:catAx>
      <c:valAx>
        <c:axId val="32754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389-122F-487A-87D4-E75ED935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56E-497F-4F70-8671-8F7B9339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912-09C3-4C6F-BE35-5019736F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25E-AC98-4D71-A175-AF2C1D42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31C-3DF8-4C62-BA94-29846819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C41-A8F7-4F90-BC49-527FFE2D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7E2-C0E5-40A5-A063-8ABD939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164-D061-4098-9CDD-B4E3DF59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0B8-FB7D-4A06-B5C7-3E8C49DC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303-BA84-4450-BEEE-EDB0B445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D2F-9A1D-4214-B775-D397BF7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83D-3C60-42EB-80A9-F0666D6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F6DCC-8472-4C9D-8BDC-307CCF835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