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97779"/>
        <c:axId val="97294554"/>
      </c:barChart>
      <c:catAx>
        <c:axId val="26497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94554"/>
        <c:crosses val="autoZero"/>
        <c:auto val="1"/>
        <c:lblAlgn val="ctr"/>
        <c:lblOffset val="100"/>
        <c:noMultiLvlLbl val="0"/>
      </c:catAx>
      <c:valAx>
        <c:axId val="97294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97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3C1-3F75-45FC-8AC8-39830CB7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510-3154-48A4-9978-A36D153B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115-3A67-42E8-AF4B-A3CBCC66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07B-6EE6-4F9B-94D7-9A45CA37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B65-A9EC-4AED-A629-CFBA4976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710-E8D2-44F3-89E0-AD5C8ACE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772-E721-4141-B609-0DA728F4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1E3-8723-4461-8B7F-1CFCDBCC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271-3419-45AC-B1AD-C1C9A003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C8F-4896-4550-B1EC-35BC80A8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06C-717F-4A97-9A0F-8AF66DE3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56E-6D83-43C4-A89E-8E14594D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2BE03-54B1-4670-A7E2-F9602865AF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