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57485"/>
        <c:axId val="48528158"/>
      </c:barChart>
      <c:catAx>
        <c:axId val="89574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528158"/>
        <c:crosses val="autoZero"/>
        <c:auto val="1"/>
        <c:lblAlgn val="ctr"/>
        <c:lblOffset val="100"/>
        <c:noMultiLvlLbl val="0"/>
      </c:catAx>
      <c:valAx>
        <c:axId val="485281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574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CC9F-8001-4A92-8387-D1886A6A3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5A6F-AAB7-48FC-9806-AF98057E7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F4A6-57FF-4BEF-A068-033B91FCB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346A-61B8-4B41-876E-DC7E01F72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C86D-328A-4927-839D-14AFBE25D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6C94-1739-45D2-9E1D-4B81981CA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7DAD-A444-46E5-BF92-EDEC90C64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2F9E-2551-41FC-8363-B8C0258D4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7444-1FCA-4A87-AE09-DAEA2CCD8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8137-2FF5-4288-A2A4-56061308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FE85-C1C8-42BC-A380-89ACCB38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018C-BD05-4A3E-B670-980B925CB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7DC192-3998-4091-A239-E79068AE2EE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