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64185"/>
        <c:axId val="79015309"/>
      </c:barChart>
      <c:catAx>
        <c:axId val="6116418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15309"/>
        <c:crosses val="autoZero"/>
        <c:auto val="1"/>
        <c:lblAlgn val="ctr"/>
        <c:lblOffset val="100"/>
        <c:noMultiLvlLbl val="0"/>
      </c:catAx>
      <c:valAx>
        <c:axId val="790153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6418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E18C-3DA1-49B8-8494-DAE5C8FE7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6884-2E84-4145-9131-7FC2B317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66A3-1B69-45FE-AE99-49D1F58E0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4ED7-5A0E-4E4E-AB6F-31086649E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C549-47B2-41F5-8089-CF73AE96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9C72-727C-4859-B48E-2DBEC588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CFDC-D3CF-4245-B04E-1A282423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6F02-F36B-4BBF-A915-3727408A1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9F43-A7FA-47B7-A9B8-9E7BFCC7A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ED34-B240-4569-8755-4AA292DD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13B9-2402-4380-B95E-70274845E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A60-7BF6-4746-9F3D-12F4935BB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6B995E-9C21-4AA5-98F9-B938524A7F7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