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63715"/>
        <c:axId val="84372229"/>
      </c:barChart>
      <c:catAx>
        <c:axId val="83963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2229"/>
        <c:crosses val="autoZero"/>
        <c:auto val="1"/>
        <c:lblAlgn val="ctr"/>
        <c:lblOffset val="100"/>
        <c:noMultiLvlLbl val="0"/>
      </c:catAx>
      <c:valAx>
        <c:axId val="84372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63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836-F2C0-40DD-BAF5-B34A7901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DB5-2393-496A-A50B-3EC2E5D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FB5-F6E3-4164-98C2-7FBCBAAF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023-A2AB-4034-BD1F-A3FB7D93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61D-4F6E-461B-BC3F-9AC5F14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B81-4CFF-4910-B4E1-662742D4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A05-49EA-48C1-9DA3-A434390A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8FF-176C-4282-933D-2BE1CAD3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CD0-24E6-4DAA-B719-FFAE7944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E39-8016-444C-B705-9112770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D72-20C1-4DE1-9B2F-2BD1BD9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441-E81C-4490-961B-A269D91F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CC46C-97F8-42AB-8ACF-0BE1497EB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