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62141"/>
        <c:axId val="79980576"/>
      </c:barChart>
      <c:catAx>
        <c:axId val="93162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80576"/>
        <c:crosses val="autoZero"/>
        <c:auto val="1"/>
        <c:lblAlgn val="ctr"/>
        <c:lblOffset val="100"/>
        <c:noMultiLvlLbl val="0"/>
      </c:catAx>
      <c:valAx>
        <c:axId val="799805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62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B2DB-B194-44B3-8F48-D4C77415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DE4-0286-4F58-954F-8A751D0A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08A0-B597-4A1A-B90F-4AAC7733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5A76-CF30-484E-8395-B9F2B1D9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AB4A-53C1-4874-BFAD-D07AF403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B110-FEC3-41C6-ACA4-B4E6DEDB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B5BF-AF22-4EC5-A1CC-74390890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979A-B4D3-4C0B-8CEC-F6EE8BC9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389E-75DB-4A8D-B6F5-8D321DFA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D3E-5A8B-478F-AC1D-35D08C77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8E7-A673-4FD9-ACA7-0EF66389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BED9-6B11-4D77-AA41-FC152FBE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7C9CE-70DB-4FF4-82BF-EE3BCD56BF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