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797467"/>
        <c:axId val="40740012"/>
      </c:barChart>
      <c:catAx>
        <c:axId val="79797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40012"/>
        <c:crosses val="autoZero"/>
        <c:auto val="1"/>
        <c:lblAlgn val="ctr"/>
        <c:lblOffset val="100"/>
        <c:noMultiLvlLbl val="0"/>
      </c:catAx>
      <c:valAx>
        <c:axId val="407400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97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6BE9-B653-45D8-9C3B-53BA509D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C37-B968-411D-A368-FB955E80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E3C-C23F-4574-AEF1-3C62AD47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0BB2-0240-4295-80FE-CBBD6AC1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4678-95CE-4011-AF93-818031C9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5A99-95F6-4FD4-A630-35D8392B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DDF-6A7E-4719-B515-2767AB8D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1FB-8AAA-47C5-A487-4C5F4A47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C2D0-D64F-43C4-B6A7-1C3D7564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C38-4351-41B5-9C71-ED42F9E2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361-3236-400F-8A6B-C5F6E22E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AF4-7F4C-4FAA-9270-B7020A6A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6FD8D-21F7-4EE0-9DAF-8ECAAA98EF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