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2B0CF25-8A5C-4404-924D-A95C80B857DF}"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108486E-1B36-4AE7-A07F-794D4538C41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1C36DBF-842B-4D44-9923-1E108D1D2B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96047C-A9B8-40A5-807A-B8D6044A4F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8521C7A-4962-4A57-B0A3-8B29F4B14A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11ED7E9-0EF3-4E7A-91B8-5162FC1EE4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CBCFBBA-05AF-489C-B6A1-F177BFF8ED5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29E3E8D-9E9A-4C18-B837-722EB5371C1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E6435FF-4B32-42FF-9A5F-CE645E87EF8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25582B6-8B16-415D-8F30-89775C65CCB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B93485D-19DD-486E-B946-49D5F8D7208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7490595-427A-44C0-AB01-7538BBE00A2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DFEA921-CA73-44BF-ADEA-81FAB48AE5D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BDF3C4-5BA3-4ED2-931D-6F49EA33A6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50067FA-914A-4F41-B89B-34CDDBB1688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C4EB197-9D9E-4454-9C10-526F144B73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E8FF139-8FF7-4B88-AB50-696D0E1E47C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A64F121-A148-455E-AEB2-858F59F29E0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2B4A2C8-FF62-4E99-B3CD-0278DE2C81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70B0CAE-E127-46E2-867D-D931815287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D46EBAB-962F-45E3-8EEA-49D42D0228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C6540F-34CF-4E69-BDD5-90E80FB4D1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F33DE6A-BFCD-4DD2-8FFA-69202EAC90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B0FE67-B146-4DF7-B9D0-5E0C8AD4A6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E57710-A00C-47A6-B84F-BB94F5B112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69869C-8BB4-4233-97E2-61CBFB9DEC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BF909-2309-4A85-B805-448ED08B70EE}"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89986-55EF-4B68-96EF-52029B833D8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465232C-6B9D-4CE4-B17F-5DD452FA1559}"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2B44A97-0723-4E61-83DF-3E4185B87F24}"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A281048-0C42-41DE-80FA-6851090266B5}"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A00F6C1-F4BF-4E0F-817D-105D9D48222A}"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EC5EAAF-33DA-4317-93E5-6A6B77FEC932}"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71CFE86-3554-4652-BDF3-3DCA8EDA9795}"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D793471-CCEB-4CC2-B968-A7D32648B019}"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B423DBF-516D-4AEC-94B6-0CED56A06048}"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C0437F0-0E4C-4EC0-A0DD-3F98D3AC53C6}"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B48CE3A-5FDB-48CC-95F8-9FE517D58E0E}"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1F65087-FD9A-4A0F-988E-50D70D9C77C7}"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904F1E2-C8BB-446D-A08D-EEA07ADBD531}"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9B8D81F-7D5D-466B-BB42-85E81AA0D2F4}"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2EA2F0E-01D7-4AFB-AC85-45E8E3B7AD03}"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35BB461-DB28-4342-8BD0-F96854D3B6BC}"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2B97993-3D7A-4233-BDCE-FF382E5DE09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15C14A9-49A3-41DE-B182-B7E21FCA7A32}"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ECC17E2-6406-4131-AE3C-43541506A2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4FCD2DF2-852A-4F7D-BDBB-B8DA1B79B920}"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75A080B-18B5-47A4-ACE8-AE44B122244E}"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D77CAF3-7D99-483A-A951-971F47D6EE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98CF3B3-B6C8-48B8-938E-247BAF1E0A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6701373-2285-4B90-8D95-49C42D49BD23}"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EFD463D-E9BD-4079-BEA5-BC3B91AE65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890B024-F899-45D7-9750-BEF87F1955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4D41479-C0E2-43F1-948E-A4E225A53E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896B7BD-7A55-4DB4-B681-6621E85E1BB3}"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6CC1194-E61B-480E-9F5B-680AA99693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4DE8697-60D1-4772-83C5-C9B3520EAB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280029D-6C32-4E09-B8EC-1BACC8B6C1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F828B17-A4E5-4392-96FC-3209894842AE}"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724EC8A-8E0E-4285-ACCA-D2ADAAAFF86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18E2D93-38D3-4D75-8CCC-F43BD26A64B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31890D8-BAF0-4EDF-AEF1-799707697B08}"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C4722DC-AD9F-4DBA-BDAE-A808A986FBF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6DE8368-C0F9-4A00-A37A-9BC586B168B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3DC41C2-69D1-40F6-A6A2-46C6C17654F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45A36BA-76F0-4F5D-91D0-FB76B1814CC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F2EF991-6CAC-411D-AFB9-318D7379FE1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1DE0058-9335-4618-97EF-190B67FF1B1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D098163-AB6B-4A1A-9BB5-1276DEE03AB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92C61A3-3F45-4E1D-ACB0-DFC109441B4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0C2324A-DE1B-4D2E-A5E4-9714AA74A90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B09B44A-CBB4-4F3D-909E-5EC0CCFB4DD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0EA21B7-10D7-43B0-8097-C306581B035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55ED4C5-833D-4DE9-BAAD-1EA16AC878F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BE0A6E6-AAEC-4F33-936C-DCA7F3813931}"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79C717B-A1DA-46F5-BCCC-7D0A58209F8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08372F8-644C-4D9C-BB7A-5703ABC163C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13450A0-0E8F-4091-89FA-BC36700042C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49DFB9B-CC07-4143-8F98-B54DEA1ED6E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6C46CAE-7947-4A1A-B070-CF49CEECA282}"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89C7653-06B8-4F91-B619-991A1E54078F}"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E41E7E8-E76D-4B75-906B-F463428C1EC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0C5FA15-0EE0-4A78-8AFB-2D232B04CAF6}"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605AE6C-40C7-4A75-994B-37DF3E684E95}"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AAA7B64-B562-409A-A32B-135154DE29C3}"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44EE7C5-43EE-4D70-B37B-D405B7AD8DED}"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5A152AE-4942-4C99-8B91-01D1838D735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833FFF0-4640-44D5-96F8-9D10AADA653C}"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11AB84C-9789-4CDE-AB7C-A4979C34911D}"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ED9791A-31F6-4098-90E8-2A88E5DA0288}"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144F0C8-B523-4C52-80AE-80C50464BA8C}"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B0701A0-8C60-4238-8476-CB2ACC94C319}"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AAB0016-6ABE-4642-9F9F-B79DC5AE3835}"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55C23C5-33E8-43A0-967C-8DEDCA3A4EFC}"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B5F64A3-1259-41B9-BFE6-0C09FF098B08}"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19A0FC1-C0D7-4CB5-984D-04B08FBA5EE5}"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B7E2CD8-0676-4080-BCF8-D855530B1055}"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10C3340-6AF5-41BB-B7A0-74286B82B487}"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CF047F3-3E72-41EF-AB1D-B63079B53900}"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939CF91-8E79-482C-8E17-6F4F77839F29}"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EFBF3BC-8A58-40EF-842B-7DED6B1DB461}"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2AA6EB1-F39C-4F5D-BAE9-A55785C2A14B}"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9EEA951-F1C8-41C2-AE0F-871B1545F3A4}"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980025D-0033-4B9E-9CB0-F76476FCBFD0}"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3DD955E-86B7-4EC7-8D9C-33EE8D0D4FA0}"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24A1FA0-7383-45FB-BE0B-B6BC7D4AAB55}"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749EE68-D32A-4FDB-872F-28212AC978F9}"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8F8FFCB-0CF1-4F4F-84BF-E9FB5C6B3FF1}"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4FCB474-04A0-4F1B-86BC-BDE739B52249}"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718CCBD-EF5A-4B02-8AB6-C3ED4A4A5EEE}"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5D4DEE7-99FF-4D65-BF6D-7AABB1A29E3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5462987-AA45-4C83-92CC-B439ADEA874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D194852-6824-4E45-B2A9-882E94E6896C}"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12DED08-3055-4864-8C80-0704DBE72AC1}"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8D95B35-086B-4D04-96B9-FC60EF41553F}"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6CC67E7-75BF-4549-A20C-C78A3A6776A4}"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AFCEA45-2C2A-4257-9031-A8EC346AF0CF}"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7E62887-8F67-4342-80E6-8DC72B92778C}"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30CECA7-E44F-4580-B96B-F885AE912A1F}"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2643299-99B0-438D-9A5D-8B76CBFC29C3}"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8D451DC-CE9B-45A7-8CB3-1EDFB58A0767}"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26447CF-2880-4DA0-A555-AE8D0F1B135E}"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4696CB20-2367-479A-A5BA-90A453B1AB7E}"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940CC1D-51DF-4C81-9B8F-43DD90061C17}"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9CFB5CB-2964-4CF8-B211-CCA63C91AB4B}"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07685F2-A60F-407D-86F4-C3F2B168045E}"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3C24C0F-A7EA-4522-A20A-9C67BEF9E7B6}"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99802A3-6952-4622-BEDB-EE9C90111963}"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22CF3EB-E4D0-4409-B93A-F7B9115D2981}"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3DAADD3-35AE-425F-9CD8-C2AAEF780F64}"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45819E3-361D-41BB-A36A-414E2AD40BCF}"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9D4275E-435D-4CDE-8E57-E472899792B7}"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1995A1A-C247-4C08-AE3C-EDFCE3116424}"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92E7FD1-3DE8-4515-88E4-8E18C19261AA}"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31FAF632-6600-4D04-A2BA-741DD5DBBF27}"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34B6215-09F5-46D5-94BC-B7E8A3343CA7}"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6886974-6D65-4C90-9F39-672A5E050392}"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40D6282-AAB0-4012-B6D8-B334B5C0D7A8}"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2063B89-679C-497C-B6F8-FEE610C6C860}"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1992C9B-D44D-4F7D-A538-1FA49F14E9FC}"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