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35276"/>
        <c:axId val="25506020"/>
      </c:barChart>
      <c:catAx>
        <c:axId val="69435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06020"/>
        <c:crosses val="autoZero"/>
        <c:auto val="1"/>
        <c:lblAlgn val="ctr"/>
        <c:lblOffset val="100"/>
        <c:noMultiLvlLbl val="0"/>
      </c:catAx>
      <c:valAx>
        <c:axId val="25506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35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A19-8D4B-488B-87FF-3645E6B9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9DA-5BFA-46CD-A6CE-59B095FA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D03A-BA77-420D-8A8C-14AAEBE1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C54-B52A-4194-A012-230ACE53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E28-5BD2-418B-9376-39106E9E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A94-2159-4E71-ACB9-42097C1E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BF8C-D770-430F-A542-620F7D54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0C6-5F1A-46BF-BB20-CD81C53A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FA7-B053-4BDA-BFCF-D0001899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362-904D-44E0-80DC-DB5AEF0B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304-B460-4CE1-8421-A6738621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B98-7C5D-47E5-B6D6-FE87D97B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732AB-F086-4008-8031-F2959DA0D8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