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23018"/>
        <c:axId val="54095588"/>
      </c:barChart>
      <c:catAx>
        <c:axId val="16923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95588"/>
        <c:crosses val="autoZero"/>
        <c:auto val="1"/>
        <c:lblAlgn val="ctr"/>
        <c:lblOffset val="100"/>
        <c:noMultiLvlLbl val="0"/>
      </c:catAx>
      <c:valAx>
        <c:axId val="54095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3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1A9-D33E-4C87-B527-7F6C7C47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52D-FD81-478E-B085-78BBED7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6B2-4B99-476F-8CCF-66CB3469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39A-A713-4FEF-8947-33141427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7FC-EA1B-48F1-AF99-B2F154F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3AA-4A07-43A6-886E-A4A10E4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F26-3AD5-487D-86B9-2A6BC29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69C-02B8-4A84-81E4-B6033C1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93F-A7E1-4427-8D49-3C537971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BFF-889E-48C3-BD00-B74648FE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A84-F478-4FA1-B728-7513CAC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CFE-D1B9-4A61-A625-15E4DAA9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83DE5-5041-4F05-BA46-ABEE755F0E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