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944242"/>
        <c:axId val="39390530"/>
      </c:barChart>
      <c:catAx>
        <c:axId val="719442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90530"/>
        <c:crosses val="autoZero"/>
        <c:auto val="1"/>
        <c:lblAlgn val="ctr"/>
        <c:lblOffset val="100"/>
        <c:noMultiLvlLbl val="0"/>
      </c:catAx>
      <c:valAx>
        <c:axId val="393905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442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7AAF-6B73-4778-A002-9FE44AFC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9DE7-42D3-4482-B1C6-622CF2AC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E9C9-41F2-4F43-945F-4721BAE7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BF0E-651B-48DC-84E1-416FD74F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5C65-F317-40C8-B677-F28E0FAF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CD73-B353-47E4-9FCA-23788302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6114-2CDD-4188-B59B-050BCCD7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81B6-2C33-45EF-A800-2A78F2A1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588C-1505-415C-ABBE-3E62A65A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5FBA-6A5D-4F61-8982-E9DC2718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1846-D185-4B66-AD93-A70B0B2D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226C-FCD5-4DA4-823E-E58029B1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9A791-DB7E-47C6-9E76-7FCC02919C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