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69847"/>
        <c:axId val="84086520"/>
      </c:barChart>
      <c:catAx>
        <c:axId val="24769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86520"/>
        <c:crosses val="autoZero"/>
        <c:auto val="1"/>
        <c:lblAlgn val="ctr"/>
        <c:lblOffset val="100"/>
        <c:noMultiLvlLbl val="0"/>
      </c:catAx>
      <c:valAx>
        <c:axId val="84086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9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6EF-E56B-4C21-8E26-605426FD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CB7-507F-42DE-AA30-73F16F5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7F3-58C7-451C-8A8F-85A597D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E01-4BB8-4DCE-B3B5-A368D1E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0C0-9351-413C-8917-4E85812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AC2-337F-4C31-B3BC-60D385D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96B-7539-4323-9000-3EF8251B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3B4-FCD1-446C-9AF9-196D1E0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A1F-B2FC-457C-BA44-BAA4B12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B6D-976A-40F1-AAA6-6CB9104F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8FD-53B2-43CB-A556-735E44E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CFC-A06E-49F8-BF79-0A9784B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9F56-94E8-4B21-A4C4-1366731A9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