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69789"/>
        <c:axId val="97986851"/>
      </c:barChart>
      <c:catAx>
        <c:axId val="52769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86851"/>
        <c:crosses val="autoZero"/>
        <c:auto val="1"/>
        <c:lblAlgn val="ctr"/>
        <c:lblOffset val="100"/>
        <c:noMultiLvlLbl val="0"/>
      </c:catAx>
      <c:valAx>
        <c:axId val="97986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69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065-C331-4663-A50E-221F2C6D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088-2DF1-4E1A-A1FC-8A0BD469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CB0-3C28-4E6B-B893-8A78640E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C12-63DB-4749-A91A-10922481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F8E-8914-4088-974F-8C8B3915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EDF-0066-4A16-8DDD-29183FA1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681-E673-4677-A304-2B643A1B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B72-2AF4-43D0-942D-2A76424F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284-F4FB-4879-B1E4-AEC47CC8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42F-B9C9-4CD5-8436-B90B6C98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768-22E2-4FE0-B19D-E1119812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432-6127-4A23-81C4-8EE25119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E14CB-21A0-49F0-AE79-29C7FBDDBB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