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04831"/>
        <c:axId val="51003733"/>
      </c:barChart>
      <c:catAx>
        <c:axId val="825048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03733"/>
        <c:crosses val="autoZero"/>
        <c:auto val="1"/>
        <c:lblAlgn val="ctr"/>
        <c:lblOffset val="100"/>
        <c:noMultiLvlLbl val="0"/>
      </c:catAx>
      <c:valAx>
        <c:axId val="510037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048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6B9-337F-454B-9E9D-D4FA2387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A80-D9F8-4E90-B8A2-0169355A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9E69-47EB-41CD-8103-27EC6597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440-AA2D-4503-8B4C-6315DFC1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C60-3802-4AD4-90BC-FE59B1CD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F82-5BA4-464B-899B-090D5878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91DF-3E4E-463B-A0AD-DA448451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9CC9-3E08-4AE6-BE28-4BE5C6CD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06AB-CA14-40A7-A07B-50C5EA30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72BB-AAF5-4D46-BE2C-595AF3F1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35A-EE1E-4DF9-9179-E8A767BB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FCB-340D-4FFA-ACCC-D0472DDF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B8AAF-01BC-4B5B-90A3-0BC96F37EC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